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FCF-876A-4A87-965F-04888037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95D-496C-4EE6-A254-B81F048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3AB-29F7-44E3-AA45-E3242BCA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941-8694-4FC7-825A-9976EC73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B977-71DA-42EA-924D-C866B7D7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0A3A-4AD1-48A5-8050-C63AF48E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304B-53A7-4AD5-BC82-22FA2F10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6D8C-E7D5-43E5-862E-62BEBA2D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C8F-3867-469A-97BB-A4870EF5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71BE-75B9-48A7-A069-21AED913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1503-C295-483B-A375-0DBF048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013-DA9C-4230-BF7C-4B8C3E96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7759-EB59-4600-BDBD-F40785EE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1123-07C7-49CE-A886-3BCEF3E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3424-D8BF-474C-B1C4-B19B2A82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B00F-B205-4915-9C8F-A8F4C070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D47B-30E5-4DAD-8897-98969690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162-261C-4554-825B-D3BECE26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CA8-39D7-4077-916E-3E5D6B9F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E43-981E-41F8-9DE6-426F5A8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F7C-A7D8-4B81-9CF1-FAA6C70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331-A6C8-48D7-B21C-A007BC6C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20D-C25D-4509-8E3A-4366C03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78F-6D2C-4609-87C5-8E30DA61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AF39-5A6F-4F48-92C6-EB93FA8EEF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5E15-55FD-4E65-BA98-D03A728E16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tworked Information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way in which they are connected, communication standards, (protocol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9890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781360"/>
            <a:ext cx="64767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e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109960"/>
            <a:ext cx="2590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of g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, not electrical – little signal fade and no danger of sparks in hostile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ignals on a single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s 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52959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989000"/>
            <a:ext cx="8763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Transmissio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re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is as thin as a human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ery flexible – needs thick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ecure (can’t be tapped or sno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long distance (2km without repea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 weight, smal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 adaptors to convert digital &lt;&gt; electrical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98900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cludes us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-red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9890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,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dio waves, either long or short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quires transmitter and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-Fi networks use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989000"/>
            <a:ext cx="87631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,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-Fi networks use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ata is transmitted as radio signals between wireless NICs and bas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latively short distances (e.g. 80m-200m), reduced by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eds are increasing – now about 11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ncrypted communications to prevent eavesdr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any PCs can connect to a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Cs can “roam” and will automatically connect to the base station that has the strongest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9890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,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luetooth, short range radio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ximum distance 10 mt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transfer rate of 2mbps c/f wireless 54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od for use with hand-held devices, eg. PD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989000"/>
            <a:ext cx="8763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icrowave stations to transmit data as high frequency radio signals from one microwave station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/c microwaves travel in straight line, stations must be located relatively close together, (&lt;50kms) &amp; on top of mountains or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high data rates over short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989000"/>
            <a:ext cx="8763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 transmission either in form of radio waves or micro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 receives microwave signals from earth &amp; transmits them back to earth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tay in sam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downloading from internet faster than up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989000"/>
            <a:ext cx="8763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reless Trans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ra-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light waves and requires line-of-sigh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 over short distances, up to 5 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 data transfer c/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2781360"/>
            <a:ext cx="64767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333360"/>
            <a:ext cx="682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twork Standards,  Protoc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362320"/>
            <a:ext cx="7854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ndards or protocols established to overcome incompatibility 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s, standards or rules defining how two computers or devices on a network transmi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09680"/>
            <a:ext cx="9144000" cy="27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in networking technolo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(by far the most common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02.11 Wireles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7560" y="928800"/>
            <a:ext cx="754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packets are handled within a network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3600" y="928800"/>
            <a:ext cx="16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2096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widely-installed LA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coaxial, UTP or fibre-optic cable, or wire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common is 10BASE-T (Cat 3 or 5) - transmission speeds up to 10 mbps second (Mbps) over twisted pair cable; 10 BASE TX, CAT 5, 100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speeds are 100 and 1000 Mbps.(‘Gigabit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5040" y="928800"/>
            <a:ext cx="21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1337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ain (but still rare) alternative to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, slower than Etherne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ather th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collisions by allowing only one node to transmit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ode can only transmit if it holds a special network packet called the Tok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of it like a “speaking stick” in a tribal meeting. The stick is passed around in a circle.  Only the person with the stick can sp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arantees each person gets a say – event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92360" y="47628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ocols – TCP/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1836720"/>
            <a:ext cx="64771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versal protocol for internet communications.  The backbone of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actually two complementary protocol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C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ransport Communication Protocol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IP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Internet Protoc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CP/IP uses small packet size which is an advantage for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CP/IP on a LAN enables support for we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83808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ocols – ot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336760"/>
            <a:ext cx="6781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protocols, like POP, (Mail); FTP, (File Transfer); HTTP; (Web Pages) specify how other network and internet operations are conducted between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 Two computers using POP both understand how to request, deliver, delete and interpret e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6480" y="781200"/>
            <a:ext cx="62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02.11 Wireless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42244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fines how 2 computers or devices communicate using radio waves, known as a Wi-Fi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vices up to 50mtrs apart can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fferent standards, eg. 802.11g mean different transfer rate, 54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-28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5400" y="7812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ransmission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9890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781360"/>
            <a:ext cx="647676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TP (Unshielded Twisted Pair) e.g. CAT5 100 mbp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elded from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s terminator at end of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: Thin-185m, thick-5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ors can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icult to install but highly resistant to signal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13:48Z</dcterms:created>
  <dc:creator>kel</dc:creator>
  <dc:description/>
  <dc:language>en-US</dc:language>
  <cp:lastModifiedBy>Kelvin Baird</cp:lastModifiedBy>
  <dcterms:modified xsi:type="dcterms:W3CDTF">2007-01-05T02:32:56Z</dcterms:modified>
  <cp:revision>32</cp:revision>
  <dc:subject/>
  <dc:title>PowerPoint Presentation</dc:title>
</cp:coreProperties>
</file>